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8C9-9ACF-45F9-B80B-E3F38FCA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540-0A77-4833-9CB8-7EC5CB99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EFF-D50A-4F8F-8B6E-3EB905F0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1B6-D012-458E-AF70-08EAAE88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591-0AB8-4953-80F0-AECE5184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2E6-C758-4DAD-8099-484F9ADB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055E-C1E5-48D4-91FD-48904AFE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6685-F725-4FEE-A4F1-7A34E56C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FDB-A13A-45FE-8FBE-DD4CC510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3D1-0333-4362-9D63-596937EB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0C69-2F15-46E3-A159-BE447610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289-0FA2-46A0-9EDE-028AA2A0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5117-7419-4D68-B4BA-887FF485F0A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2924280"/>
            <a:ext cx="9144000" cy="1526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ÓDULO VI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ALU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0 CuadroTexto"/>
          <p:cNvSpPr/>
          <p:nvPr/>
        </p:nvSpPr>
        <p:spPr>
          <a:xfrm>
            <a:off x="3924360" y="486900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tener permisos de pub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5 CuadroTexto"/>
          <p:cNvGrpSpPr/>
          <p:nvPr/>
        </p:nvGrpSpPr>
        <p:grpSpPr>
          <a:xfrm>
            <a:off x="0" y="1487520"/>
            <a:ext cx="9144000" cy="581400"/>
            <a:chOff x="0" y="1487520"/>
            <a:chExt cx="9144000" cy="581400"/>
          </a:xfrm>
        </p:grpSpPr>
        <p:pic>
          <p:nvPicPr>
            <p:cNvPr id="44" name="5 CuadroTexto" descr=""/>
            <p:cNvPicPr/>
            <p:nvPr/>
          </p:nvPicPr>
          <p:blipFill>
            <a:blip r:embed="rId1"/>
            <a:stretch/>
          </p:blipFill>
          <p:spPr>
            <a:xfrm>
              <a:off x="0" y="1490400"/>
              <a:ext cx="914400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8752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3200" spc="-1" strike="noStrike">
                  <a:solidFill>
                    <a:srgbClr val="000000"/>
                  </a:solidFill>
                  <a:latin typeface="Lucida Sans Unicode"/>
                  <a:ea typeface="Verdana"/>
                </a:rPr>
                <a:t>OBTENER PERMISOS DE PUBLIC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6 Rectángulo redondeado"/>
          <p:cNvGrpSpPr/>
          <p:nvPr/>
        </p:nvGrpSpPr>
        <p:grpSpPr>
          <a:xfrm>
            <a:off x="353880" y="5499000"/>
            <a:ext cx="8479080" cy="1236600"/>
            <a:chOff x="353880" y="5499000"/>
            <a:chExt cx="8479080" cy="1236600"/>
          </a:xfrm>
        </p:grpSpPr>
        <p:pic>
          <p:nvPicPr>
            <p:cNvPr id="47" name="6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353880" y="5499000"/>
              <a:ext cx="84790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71600" y="5583240"/>
              <a:ext cx="8242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ntes de iniciar su evaluación, asegúrese de haber leído cuidadosa y completamente el procedimiento para </a:t>
              </a:r>
              <a:r>
                <a:rPr b="1" lang="es-CO" sz="1600" spc="-1" strike="noStrike" u="sng">
                  <a:solidFill>
                    <a:srgbClr val="000000"/>
                  </a:solidFill>
                  <a:uFillTx/>
                  <a:latin typeface="Arial"/>
                  <a:ea typeface="ＭＳ Ｐゴシック"/>
                </a:rPr>
                <a:t>Obtener permisos de publicación</a:t>
              </a: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5 Imagen" descr=""/>
          <p:cNvPicPr/>
          <p:nvPr/>
        </p:nvPicPr>
        <p:blipFill>
          <a:blip r:embed="rId3"/>
          <a:stretch/>
        </p:blipFill>
        <p:spPr>
          <a:xfrm>
            <a:off x="324000" y="2163600"/>
            <a:ext cx="4132080" cy="3017880"/>
          </a:xfrm>
          <a:prstGeom prst="rect">
            <a:avLst/>
          </a:prstGeom>
          <a:ln w="0">
            <a:noFill/>
          </a:ln>
        </p:spPr>
      </p:pic>
      <p:sp>
        <p:nvSpPr>
          <p:cNvPr id="50" name="1 Flecha derecha"/>
          <p:cNvSpPr/>
          <p:nvPr/>
        </p:nvSpPr>
        <p:spPr>
          <a:xfrm>
            <a:off x="324000" y="3578400"/>
            <a:ext cx="299880" cy="2649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3 Imagen" descr=""/>
          <p:cNvPicPr/>
          <p:nvPr/>
        </p:nvPicPr>
        <p:blipFill>
          <a:blip r:embed="rId4"/>
          <a:stretch/>
        </p:blipFill>
        <p:spPr>
          <a:xfrm>
            <a:off x="4548240" y="2157480"/>
            <a:ext cx="4346640" cy="2859120"/>
          </a:xfrm>
          <a:prstGeom prst="rect">
            <a:avLst/>
          </a:prstGeom>
          <a:ln w="0">
            <a:noFill/>
          </a:ln>
        </p:spPr>
      </p:pic>
      <p:sp>
        <p:nvSpPr>
          <p:cNvPr id="52" name="8 Flecha derecha"/>
          <p:cNvSpPr/>
          <p:nvPr/>
        </p:nvSpPr>
        <p:spPr>
          <a:xfrm rot="7259400">
            <a:off x="5202000" y="2368080"/>
            <a:ext cx="253800" cy="149400"/>
          </a:xfrm>
          <a:prstGeom prst="rightArrow">
            <a:avLst>
              <a:gd name="adj1" fmla="val 50000"/>
              <a:gd name="adj2" fmla="val 4990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4 CuadroTexto"/>
          <p:cNvGrpSpPr/>
          <p:nvPr/>
        </p:nvGrpSpPr>
        <p:grpSpPr>
          <a:xfrm>
            <a:off x="-23760" y="1487520"/>
            <a:ext cx="9144000" cy="581400"/>
            <a:chOff x="-23760" y="1487520"/>
            <a:chExt cx="9144000" cy="581400"/>
          </a:xfrm>
        </p:grpSpPr>
        <p:pic>
          <p:nvPicPr>
            <p:cNvPr id="54" name="4 CuadroTexto" descr=""/>
            <p:cNvPicPr/>
            <p:nvPr/>
          </p:nvPicPr>
          <p:blipFill>
            <a:blip r:embed="rId1"/>
            <a:stretch/>
          </p:blipFill>
          <p:spPr>
            <a:xfrm>
              <a:off x="-20520" y="1490400"/>
              <a:ext cx="914076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-23760" y="1487520"/>
              <a:ext cx="914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3200" spc="-1" strike="noStrike">
                  <a:solidFill>
                    <a:srgbClr val="000000"/>
                  </a:solidFill>
                  <a:latin typeface="Lucida Sans Unicode"/>
                  <a:ea typeface="Verdana"/>
                </a:rPr>
                <a:t>EVALU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5 Rectángulo redondeado"/>
          <p:cNvGrpSpPr/>
          <p:nvPr/>
        </p:nvGrpSpPr>
        <p:grpSpPr>
          <a:xfrm>
            <a:off x="334800" y="5473800"/>
            <a:ext cx="8474400" cy="1311120"/>
            <a:chOff x="334800" y="5473800"/>
            <a:chExt cx="8474400" cy="1311120"/>
          </a:xfrm>
        </p:grpSpPr>
        <p:pic>
          <p:nvPicPr>
            <p:cNvPr id="57" name="5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334800" y="5473800"/>
              <a:ext cx="847440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50720" y="5560920"/>
              <a:ext cx="824256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na vez leído el procedimiento para Obtener permisos de Publicación, haga clic en la opción </a:t>
              </a:r>
              <a:r>
                <a:rPr b="1" lang="es-CO" sz="1600" spc="-1" strike="noStrike" u="sng">
                  <a:solidFill>
                    <a:srgbClr val="000000"/>
                  </a:solidFill>
                  <a:uFillTx/>
                  <a:latin typeface="Arial"/>
                  <a:ea typeface="ＭＳ Ｐゴシック"/>
                </a:rPr>
                <a:t>Presentar Examen</a:t>
              </a: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que se encuentra en el paso 3 del mencionado procedimient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2 Imagen" descr=""/>
          <p:cNvPicPr/>
          <p:nvPr/>
        </p:nvPicPr>
        <p:blipFill>
          <a:blip r:embed="rId3"/>
          <a:stretch/>
        </p:blipFill>
        <p:spPr>
          <a:xfrm>
            <a:off x="1042920" y="1871640"/>
            <a:ext cx="7131240" cy="3359160"/>
          </a:xfrm>
          <a:prstGeom prst="rect">
            <a:avLst/>
          </a:prstGeom>
          <a:ln w="0">
            <a:noFill/>
          </a:ln>
        </p:spPr>
      </p:pic>
      <p:sp>
        <p:nvSpPr>
          <p:cNvPr id="60" name="3 Marco"/>
          <p:cNvSpPr/>
          <p:nvPr/>
        </p:nvSpPr>
        <p:spPr>
          <a:xfrm>
            <a:off x="4002120" y="3828960"/>
            <a:ext cx="900000" cy="252360"/>
          </a:xfrm>
          <a:custGeom>
            <a:avLst/>
            <a:gdLst/>
            <a:ahLst/>
            <a:rect l="l" t="t" r="r" b="b"/>
            <a:pathLst>
              <a:path w="900112" h="252413">
                <a:moveTo>
                  <a:pt x="0" y="0"/>
                </a:moveTo>
                <a:lnTo>
                  <a:pt x="900112" y="0"/>
                </a:lnTo>
                <a:lnTo>
                  <a:pt x="900112" y="252413"/>
                </a:lnTo>
                <a:lnTo>
                  <a:pt x="0" y="252413"/>
                </a:lnTo>
                <a:lnTo>
                  <a:pt x="0" y="0"/>
                </a:lnTo>
                <a:close/>
                <a:moveTo>
                  <a:pt x="31552" y="31552"/>
                </a:moveTo>
                <a:lnTo>
                  <a:pt x="31552" y="220861"/>
                </a:lnTo>
                <a:lnTo>
                  <a:pt x="868560" y="220861"/>
                </a:lnTo>
                <a:lnTo>
                  <a:pt x="868560" y="31552"/>
                </a:lnTo>
                <a:lnTo>
                  <a:pt x="31552" y="3155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7 CuadroTexto"/>
          <p:cNvGrpSpPr/>
          <p:nvPr/>
        </p:nvGrpSpPr>
        <p:grpSpPr>
          <a:xfrm>
            <a:off x="0" y="1395360"/>
            <a:ext cx="9144000" cy="368280"/>
            <a:chOff x="0" y="1395360"/>
            <a:chExt cx="9144000" cy="368280"/>
          </a:xfrm>
        </p:grpSpPr>
        <p:pic>
          <p:nvPicPr>
            <p:cNvPr id="62" name="7 CuadroTexto" descr=""/>
            <p:cNvPicPr/>
            <p:nvPr/>
          </p:nvPicPr>
          <p:blipFill>
            <a:blip r:embed="rId1"/>
            <a:stretch/>
          </p:blipFill>
          <p:spPr>
            <a:xfrm>
              <a:off x="0" y="1396440"/>
              <a:ext cx="9144000" cy="3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13953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000000"/>
                  </a:solidFill>
                  <a:latin typeface="Bookman Old Style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10 Rectángulo redondeado"/>
          <p:cNvGrpSpPr/>
          <p:nvPr/>
        </p:nvGrpSpPr>
        <p:grpSpPr>
          <a:xfrm>
            <a:off x="334800" y="5273640"/>
            <a:ext cx="8474400" cy="1382760"/>
            <a:chOff x="334800" y="5273640"/>
            <a:chExt cx="8474400" cy="1382760"/>
          </a:xfrm>
        </p:grpSpPr>
        <p:pic>
          <p:nvPicPr>
            <p:cNvPr id="65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334800" y="5273640"/>
              <a:ext cx="847440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57200" y="5362560"/>
              <a:ext cx="822960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parecerá el formulario para la evaluación compuesto por 30 preguntas. Allí deberá escribir su nombre completo, seleccionar la entidad a la que pertenece y escribir su correo electrónico, conforme lo establece el procedimiento en el paso 3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1 Imagen" descr=""/>
          <p:cNvPicPr/>
          <p:nvPr/>
        </p:nvPicPr>
        <p:blipFill>
          <a:blip r:embed="rId3"/>
          <a:stretch/>
        </p:blipFill>
        <p:spPr>
          <a:xfrm>
            <a:off x="646200" y="1987560"/>
            <a:ext cx="782136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4 CuadroTexto"/>
          <p:cNvGrpSpPr/>
          <p:nvPr/>
        </p:nvGrpSpPr>
        <p:grpSpPr>
          <a:xfrm>
            <a:off x="-12600" y="1444680"/>
            <a:ext cx="9144000" cy="371520"/>
            <a:chOff x="-12600" y="1444680"/>
            <a:chExt cx="9144000" cy="371520"/>
          </a:xfrm>
        </p:grpSpPr>
        <p:pic>
          <p:nvPicPr>
            <p:cNvPr id="69" name="4 CuadroTexto" descr=""/>
            <p:cNvPicPr/>
            <p:nvPr/>
          </p:nvPicPr>
          <p:blipFill>
            <a:blip r:embed="rId1"/>
            <a:stretch/>
          </p:blipFill>
          <p:spPr>
            <a:xfrm>
              <a:off x="-12600" y="1444680"/>
              <a:ext cx="91425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-11160" y="1444680"/>
              <a:ext cx="914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000000"/>
                  </a:solidFill>
                  <a:latin typeface="Bookman Old Style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5 Rectángulo redondeado"/>
          <p:cNvGrpSpPr/>
          <p:nvPr/>
        </p:nvGrpSpPr>
        <p:grpSpPr>
          <a:xfrm>
            <a:off x="334800" y="5273640"/>
            <a:ext cx="8474400" cy="1382760"/>
            <a:chOff x="334800" y="5273640"/>
            <a:chExt cx="8474400" cy="1382760"/>
          </a:xfrm>
        </p:grpSpPr>
        <p:pic>
          <p:nvPicPr>
            <p:cNvPr id="72" name="5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334800" y="5273640"/>
              <a:ext cx="847440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457200" y="5362560"/>
              <a:ext cx="822960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 continuación, encontrará el formulario con las 30 preguntas a resolver, en cada pregunta deberá seleccionar una sola respuesta. Una vez se hayan contestado todas las preguntas debe seleccionar la opción </a:t>
              </a:r>
              <a:r>
                <a:rPr b="1" lang="es-CO" sz="1600" spc="-1" strike="noStrike" u="sng">
                  <a:solidFill>
                    <a:srgbClr val="000000"/>
                  </a:solidFill>
                  <a:uFillTx/>
                  <a:latin typeface="Arial"/>
                  <a:ea typeface="ＭＳ Ｐゴシック"/>
                </a:rPr>
                <a:t>Enviar</a:t>
              </a: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que se encuentra al finalizar el formulari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1 Imagen" descr=""/>
          <p:cNvPicPr/>
          <p:nvPr/>
        </p:nvPicPr>
        <p:blipFill>
          <a:blip r:embed="rId3"/>
          <a:stretch/>
        </p:blipFill>
        <p:spPr>
          <a:xfrm>
            <a:off x="109440" y="1847880"/>
            <a:ext cx="8785440" cy="3217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4 CuadroTexto"/>
          <p:cNvGrpSpPr/>
          <p:nvPr/>
        </p:nvGrpSpPr>
        <p:grpSpPr>
          <a:xfrm>
            <a:off x="0" y="1450800"/>
            <a:ext cx="9144000" cy="371520"/>
            <a:chOff x="0" y="1450800"/>
            <a:chExt cx="9144000" cy="371520"/>
          </a:xfrm>
        </p:grpSpPr>
        <p:pic>
          <p:nvPicPr>
            <p:cNvPr id="76" name="4 CuadroTexto" descr=""/>
            <p:cNvPicPr/>
            <p:nvPr/>
          </p:nvPicPr>
          <p:blipFill>
            <a:blip r:embed="rId1"/>
            <a:stretch/>
          </p:blipFill>
          <p:spPr>
            <a:xfrm>
              <a:off x="0" y="1450800"/>
              <a:ext cx="91440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0" y="145260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000000"/>
                  </a:solidFill>
                  <a:latin typeface="Bookman Old Style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5 Rectángulo redondeado"/>
          <p:cNvGrpSpPr/>
          <p:nvPr/>
        </p:nvGrpSpPr>
        <p:grpSpPr>
          <a:xfrm>
            <a:off x="334800" y="5273640"/>
            <a:ext cx="8474400" cy="1382760"/>
            <a:chOff x="334800" y="5273640"/>
            <a:chExt cx="8474400" cy="1382760"/>
          </a:xfrm>
        </p:grpSpPr>
        <p:pic>
          <p:nvPicPr>
            <p:cNvPr id="79" name="5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334800" y="5273640"/>
              <a:ext cx="847440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57200" y="5362560"/>
              <a:ext cx="822960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steriormente, aparecerá el resultado de la evaluación, en caso de no haber acertado el 100% de las preguntas, deberá realizarla nuevamente hasta aprobarla. El resultado de la prueba mostrará los aciertos y las fallas obtenida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1 Imagen" descr=""/>
          <p:cNvPicPr/>
          <p:nvPr/>
        </p:nvPicPr>
        <p:blipFill>
          <a:blip r:embed="rId3"/>
          <a:stretch/>
        </p:blipFill>
        <p:spPr>
          <a:xfrm>
            <a:off x="244440" y="1822320"/>
            <a:ext cx="8143920" cy="3408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4 CuadroTexto"/>
          <p:cNvGrpSpPr/>
          <p:nvPr/>
        </p:nvGrpSpPr>
        <p:grpSpPr>
          <a:xfrm>
            <a:off x="-12600" y="1457280"/>
            <a:ext cx="9144000" cy="371520"/>
            <a:chOff x="-12600" y="1457280"/>
            <a:chExt cx="9144000" cy="371520"/>
          </a:xfrm>
        </p:grpSpPr>
        <p:pic>
          <p:nvPicPr>
            <p:cNvPr id="83" name="4 CuadroTexto" descr=""/>
            <p:cNvPicPr/>
            <p:nvPr/>
          </p:nvPicPr>
          <p:blipFill>
            <a:blip r:embed="rId1"/>
            <a:stretch/>
          </p:blipFill>
          <p:spPr>
            <a:xfrm>
              <a:off x="-12600" y="1457280"/>
              <a:ext cx="91425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-11160" y="1459080"/>
              <a:ext cx="914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000000"/>
                  </a:solidFill>
                  <a:latin typeface="Bookman Old Style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5 Rectángulo redondeado"/>
          <p:cNvGrpSpPr/>
          <p:nvPr/>
        </p:nvGrpSpPr>
        <p:grpSpPr>
          <a:xfrm>
            <a:off x="334800" y="5052960"/>
            <a:ext cx="8474400" cy="1701720"/>
            <a:chOff x="334800" y="5052960"/>
            <a:chExt cx="8474400" cy="1701720"/>
          </a:xfrm>
        </p:grpSpPr>
        <p:pic>
          <p:nvPicPr>
            <p:cNvPr id="86" name="5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334800" y="5052960"/>
              <a:ext cx="847440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73040" y="5162400"/>
              <a:ext cx="819792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na vez realice la evaluación sin cometer ninguna falla, el sistema le indicará un </a:t>
              </a:r>
              <a:r>
                <a:rPr b="1" lang="es-CO" sz="1600" spc="-1" strike="noStrike" u="sng">
                  <a:solidFill>
                    <a:srgbClr val="000000"/>
                  </a:solidFill>
                  <a:uFillTx/>
                  <a:latin typeface="Arial"/>
                  <a:ea typeface="ＭＳ Ｐゴシック"/>
                </a:rPr>
                <a:t>Código de Aprobación</a:t>
              </a: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, con el cual deberá continuar el procedimiento desde el paso #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steriormente, cada funcionario recibirá en el correo electrónico registrado, el usuario y clave que le permitirán publicar información en el SECOP - Fase Informativa a nombre de la entidad correspondient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1 Imagen" descr=""/>
          <p:cNvPicPr/>
          <p:nvPr/>
        </p:nvPicPr>
        <p:blipFill>
          <a:blip r:embed="rId3"/>
          <a:stretch/>
        </p:blipFill>
        <p:spPr>
          <a:xfrm>
            <a:off x="1243080" y="1828800"/>
            <a:ext cx="660852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2793960"/>
            <a:ext cx="9144000" cy="916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ACI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20 CuadroTexto"/>
          <p:cNvSpPr/>
          <p:nvPr/>
        </p:nvSpPr>
        <p:spPr>
          <a:xfrm>
            <a:off x="0" y="40053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92000" tIns="46800" bIns="46800" anchor="t">
            <a:spAutoFit/>
          </a:bodyPr>
          <a:p>
            <a:pPr marL="801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 finalizado la capacitación sobre el Sistema Electrónico para la Contratación Pública – SECOP – , si se encuentra preparado presente su exa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1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6699cc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7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7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6T16:27:15Z</dcterms:created>
  <dc:creator>Oscar Espejo</dc:creator>
  <dc:description/>
  <dc:language>en-US</dc:language>
  <cp:lastModifiedBy>Mónica Briceño Alvarado</cp:lastModifiedBy>
  <dcterms:modified xsi:type="dcterms:W3CDTF">2013-08-02T21:04:19Z</dcterms:modified>
  <cp:revision>37</cp:revision>
  <dc:subject/>
  <dc:title>Diapositiva 1</dc:title>
</cp:coreProperties>
</file>